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B5CB-A842-41EE-8399-DBA14B04873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5063-1078-47D1-9278-5F567C67723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6681-8B17-450E-852C-7918B802155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8576-3C20-4859-A293-2C8B552B1E9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FA69-3F2F-4D71-8328-B81ABE7EF8D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5FF4-D5FB-4DD9-9812-D458D0E14CD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B15A-CCEF-4463-9A0A-74AD340D25F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6E86-7ECC-4BA2-9992-4248B140F56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B1C3-253B-4C8D-8185-243E538F7C7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DB43-2FA2-4827-A118-85F4E5225A6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8686-3E51-45B7-AC6F-0823AFD6754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F478-EEEF-432E-BBBD-C45A053CB8E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8DF6-295C-42A9-95B7-0A1B6B11893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92C5-8856-4036-8134-4AA7C12E7C1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12E8-268B-4B30-A655-B5B194CBB3E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B4F5-B72F-4396-B313-90E88CA749E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24C6-6F1A-4E08-B8C7-0C9F27D9BA2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AF48-29A9-41A9-8AD0-38B7822A6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04200"/>
            <a:ext cx="822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D98E-A02A-4227-917F-D903DFC9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042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042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478A-8076-4351-9EA6-0BED3FDB3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04200"/>
            <a:ext cx="264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04200"/>
            <a:ext cx="264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04200"/>
            <a:ext cx="264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BB2E-C15D-4114-B4E9-D72B519F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B7D5-275D-4666-87B2-DBE2D57B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62C7-1D22-4E33-9F0F-D275048C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474C-6CC1-40BB-88B0-13F49FF7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1A14-C891-47A4-B011-5ACFF833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8268-99B3-4923-8A52-2875D79A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042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3890-7E5B-41A1-ADB6-D74A09F0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042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8267-07EA-40C0-A91A-9A7F4AF7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4200"/>
            <a:ext cx="822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1F41-0795-44E5-8370-1CAA9252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00520"/>
            <a:ext cx="28958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5CA5-717C-44A8-8D6E-EC3EA64D8FE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acube.di.unipi.it/esercizi-lucene-corso-ir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000000"/>
                </a:solidFill>
                <a:latin typeface="Calibri"/>
              </a:rPr>
              <a:t>Lucene in action</a:t>
            </a:r>
            <a:endParaRPr b="1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898989"/>
                </a:solidFill>
                <a:latin typeface="Calibri"/>
              </a:rPr>
              <a:t>Information Retriev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898989"/>
                </a:solidFill>
                <a:latin typeface="Calibri"/>
              </a:rPr>
              <a:t>A.A. 2010-1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898989"/>
                </a:solidFill>
                <a:latin typeface="Calibri"/>
              </a:rPr>
              <a:t>– </a:t>
            </a:r>
            <a:r>
              <a:rPr b="0" lang="it-IT" sz="2200" spc="-1" strike="noStrike">
                <a:solidFill>
                  <a:srgbClr val="898989"/>
                </a:solidFill>
                <a:latin typeface="Calibri"/>
              </a:rPr>
              <a:t>P. Ferragina, U. Scaiella 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898989"/>
                </a:solidFill>
                <a:latin typeface="Calibri"/>
              </a:rPr>
              <a:t>– </a:t>
            </a:r>
            <a:r>
              <a:rPr b="0" lang="it-IT" sz="2200" spc="-1" strike="noStrike">
                <a:solidFill>
                  <a:srgbClr val="898989"/>
                </a:solidFill>
                <a:latin typeface="Calibri"/>
              </a:rPr>
              <a:t>Dipartimento di Informatica – Università di Pisa 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Field Option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Field.Sto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YES, 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Field.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NALYZED, NOT_ANALYZED, 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Field.TermV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NO, YES (POSITION and/or OFFSE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Analysis tip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Use PerFieldAnalyzer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Don’t analyze keyword fiel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tore only needed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Use NumberUtils for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dd same field more than once, analyze it different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Boost exact case/stem mat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Searching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bbb59"/>
                </a:solidFill>
                <a:latin typeface="Courier New"/>
                <a:ea typeface="Courier New"/>
              </a:rPr>
              <a:t>//Best practice: reusable singleton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Searcher s = new IndexSearcher(directory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bbb59"/>
                </a:solidFill>
                <a:latin typeface="Courier New"/>
                <a:ea typeface="Courier New"/>
              </a:rPr>
              <a:t>//Build the query from the input st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ryParser qParser =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QueryParser(“body”, analyzer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ry q = qParser.parse(“title:Jaguar”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bbb59"/>
                </a:solidFill>
                <a:latin typeface="Courier New"/>
                <a:ea typeface="Courier New"/>
              </a:rPr>
              <a:t>//Do 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opDocs hits = s.search(q, maxResults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“Results: ”+hits.totalHits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bbb59"/>
                </a:solidFill>
                <a:latin typeface="Courier New"/>
                <a:ea typeface="Courier New"/>
              </a:rPr>
              <a:t>//Scroll all retrieved do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ScoreDoc hit : hits.scoreDocs)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 doc = s.doc(hit.doc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c.get(“id”) + “ – ” + doc.get(“title”) 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“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levance=” + hit.score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.close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Building the Query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uilt-in QueryPar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does text analysis and builds the Query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good for human input, debugg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not all query types suppor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pecific syntax: see JavaDoc for QueryPars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rogrammatic query bui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  <a:ea typeface="Courier New"/>
              </a:rPr>
              <a:t>e.g.: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Query q = new TermQuery(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Term(“title”, “jaguar”)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many types: Boolean, Term, Phrase, SpanNear, 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no text analysi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Scoring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Lucene = </a:t>
            </a:r>
            <a:br>
              <a:rPr sz="3000"/>
            </a:b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Boolean Model + Vector Space Mod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Similarity = </a:t>
            </a:r>
            <a:r>
              <a:rPr b="1" lang="it-IT" sz="3000" spc="-1" strike="noStrike">
                <a:solidFill>
                  <a:srgbClr val="000000"/>
                </a:solidFill>
                <a:latin typeface="Calibri"/>
              </a:rPr>
              <a:t>Cosine Similar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Term Frequen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Inverse Document Frequen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Other stuf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Length Normal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Coord. factor (matching terms in OR queri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Boosts (per query or per do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To build your own: implement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milarity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and call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archer.setSimila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  <a:ea typeface="Courier New"/>
              </a:rPr>
              <a:t>For debugging: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archer.explain(Query q, int do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ttangolo 31"/>
          <p:cNvSpPr/>
          <p:nvPr/>
        </p:nvSpPr>
        <p:spPr>
          <a:xfrm>
            <a:off x="5214960" y="1000080"/>
            <a:ext cx="3786120" cy="2857680"/>
          </a:xfrm>
          <a:prstGeom prst="rect">
            <a:avLst/>
          </a:prstGeom>
          <a:solidFill>
            <a:srgbClr val="bfbfbf">
              <a:alpha val="29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ndex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Batch index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Raise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ergeFa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Raise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BufferedDo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ear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Reuse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Searc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Optimize: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Writer.optimize(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Use cached filters: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QueryFilter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3" descr="D:\Documenti\Lavoro\Unipi\lectures\IR\db.png"/>
          <p:cNvPicPr/>
          <p:nvPr/>
        </p:nvPicPr>
        <p:blipFill>
          <a:blip r:embed="rId1"/>
          <a:stretch/>
        </p:blipFill>
        <p:spPr>
          <a:xfrm>
            <a:off x="5286240" y="2062080"/>
            <a:ext cx="1509840" cy="1509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D:\Documenti\Lavoro\Unipi\lectures\IR\db.png"/>
          <p:cNvPicPr/>
          <p:nvPr/>
        </p:nvPicPr>
        <p:blipFill>
          <a:blip r:embed="rId2"/>
          <a:stretch/>
        </p:blipFill>
        <p:spPr>
          <a:xfrm>
            <a:off x="6643800" y="2643120"/>
            <a:ext cx="795240" cy="7952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D:\Documenti\Lavoro\Unipi\lectures\IR\db.png"/>
          <p:cNvPicPr/>
          <p:nvPr/>
        </p:nvPicPr>
        <p:blipFill>
          <a:blip r:embed="rId3"/>
          <a:stretch/>
        </p:blipFill>
        <p:spPr>
          <a:xfrm>
            <a:off x="7000920" y="2643120"/>
            <a:ext cx="795240" cy="795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D:\Documenti\Lavoro\Unipi\lectures\IR\db.png"/>
          <p:cNvPicPr/>
          <p:nvPr/>
        </p:nvPicPr>
        <p:blipFill>
          <a:blip r:embed="rId4"/>
          <a:stretch/>
        </p:blipFill>
        <p:spPr>
          <a:xfrm>
            <a:off x="7500960" y="2643120"/>
            <a:ext cx="795240" cy="7952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D:\Documenti\Lavoro\Unipi\lectures\IR\db.png"/>
          <p:cNvPicPr/>
          <p:nvPr/>
        </p:nvPicPr>
        <p:blipFill>
          <a:blip r:embed="rId5"/>
          <a:stretch/>
        </p:blipFill>
        <p:spPr>
          <a:xfrm>
            <a:off x="8286840" y="2857680"/>
            <a:ext cx="509400" cy="509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D:\Documenti\Lavoro\Unipi\lectures\IR\db.png"/>
          <p:cNvPicPr/>
          <p:nvPr/>
        </p:nvPicPr>
        <p:blipFill>
          <a:blip r:embed="rId6"/>
          <a:stretch/>
        </p:blipFill>
        <p:spPr>
          <a:xfrm>
            <a:off x="8501040" y="2857680"/>
            <a:ext cx="50976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Rettangolo 12"/>
          <p:cNvSpPr/>
          <p:nvPr/>
        </p:nvSpPr>
        <p:spPr>
          <a:xfrm>
            <a:off x="6572160" y="1285920"/>
            <a:ext cx="185760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Segment_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Connettore 2 14"/>
          <p:cNvCxnSpPr/>
          <p:nvPr/>
        </p:nvCxnSpPr>
        <p:spPr>
          <a:xfrm flipH="1">
            <a:off x="6428520" y="1785960"/>
            <a:ext cx="1072440" cy="357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7" name="Connettore 2 15"/>
          <p:cNvCxnSpPr/>
          <p:nvPr/>
        </p:nvCxnSpPr>
        <p:spPr>
          <a:xfrm flipH="1">
            <a:off x="7041960" y="1785600"/>
            <a:ext cx="459360" cy="8578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8" name="Connettore 2 18"/>
          <p:cNvCxnSpPr/>
          <p:nvPr/>
        </p:nvCxnSpPr>
        <p:spPr>
          <a:xfrm flipH="1">
            <a:off x="7399080" y="1785600"/>
            <a:ext cx="102240" cy="8578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9" name="Connettore 2 21"/>
          <p:cNvCxnSpPr/>
          <p:nvPr/>
        </p:nvCxnSpPr>
        <p:spPr>
          <a:xfrm>
            <a:off x="7499880" y="1785600"/>
            <a:ext cx="399240" cy="8578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Connettore 2 24"/>
          <p:cNvCxnSpPr/>
          <p:nvPr/>
        </p:nvCxnSpPr>
        <p:spPr>
          <a:xfrm>
            <a:off x="7499880" y="1785600"/>
            <a:ext cx="1042200" cy="10724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1" name="Connettore 2 27"/>
          <p:cNvCxnSpPr/>
          <p:nvPr/>
        </p:nvCxnSpPr>
        <p:spPr>
          <a:xfrm>
            <a:off x="7500960" y="1785600"/>
            <a:ext cx="1256400" cy="10724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2" name="CasellaDiTesto 30"/>
          <p:cNvSpPr/>
          <p:nvPr/>
        </p:nvSpPr>
        <p:spPr>
          <a:xfrm>
            <a:off x="5643720" y="34290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7f7f7f"/>
                </a:solidFill>
                <a:latin typeface="Calibri"/>
              </a:rPr>
              <a:t>Index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Esercizi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  <a:hlinkClick r:id="rId1"/>
              </a:rPr>
              <a:t>http://acube.di.unipi.it/esercizi-lucene-corso-ir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What is Lucen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-text search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ibr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ndexing + Searching compon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100% Java, no dependencies, no config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No crawler, document parsing nor search U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ee Apache Nutch, Apache Solr, Apache T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robably, the most widely used 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pplications: a lot of (famous) websites, many commercial pro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Basic Application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311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ars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Write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Make qu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isplay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D:\Documenti\Lavoro\Unipi\lectures\IR\db.png"/>
          <p:cNvPicPr/>
          <p:nvPr/>
        </p:nvPicPr>
        <p:blipFill>
          <a:blip r:embed="rId1"/>
          <a:stretch/>
        </p:blipFill>
        <p:spPr>
          <a:xfrm>
            <a:off x="6286680" y="4929120"/>
            <a:ext cx="1009440" cy="1009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D:\Documenti\Lavoro\Unipi\lectures\IR\docs.jpg"/>
          <p:cNvPicPr/>
          <p:nvPr/>
        </p:nvPicPr>
        <p:blipFill>
          <a:blip r:embed="rId2"/>
          <a:stretch/>
        </p:blipFill>
        <p:spPr>
          <a:xfrm>
            <a:off x="4357800" y="1785960"/>
            <a:ext cx="1057320" cy="1057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D:\Documenti\Lavoro\Unipi\lectures\IR\list.jpg"/>
          <p:cNvPicPr/>
          <p:nvPr/>
        </p:nvPicPr>
        <p:blipFill>
          <a:blip r:embed="rId3"/>
          <a:stretch/>
        </p:blipFill>
        <p:spPr>
          <a:xfrm>
            <a:off x="8261280" y="1928880"/>
            <a:ext cx="882720" cy="882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D:\Documenti\Lavoro\Unipi\lectures\IR\user.png"/>
          <p:cNvPicPr/>
          <p:nvPr/>
        </p:nvPicPr>
        <p:blipFill>
          <a:blip r:embed="rId4"/>
          <a:stretch/>
        </p:blipFill>
        <p:spPr>
          <a:xfrm>
            <a:off x="6858000" y="1928880"/>
            <a:ext cx="878040" cy="877680"/>
          </a:xfrm>
          <a:prstGeom prst="rect">
            <a:avLst/>
          </a:prstGeom>
          <a:ln w="0">
            <a:noFill/>
          </a:ln>
        </p:spPr>
      </p:pic>
      <p:sp>
        <p:nvSpPr>
          <p:cNvPr id="58" name="Rettangolo 8"/>
          <p:cNvSpPr/>
          <p:nvPr/>
        </p:nvSpPr>
        <p:spPr>
          <a:xfrm>
            <a:off x="4214880" y="3786120"/>
            <a:ext cx="185724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dexWr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ttangolo 9"/>
          <p:cNvSpPr/>
          <p:nvPr/>
        </p:nvSpPr>
        <p:spPr>
          <a:xfrm>
            <a:off x="7000920" y="3786120"/>
            <a:ext cx="20001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dexSear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ccia a destra 10"/>
          <p:cNvSpPr/>
          <p:nvPr/>
        </p:nvSpPr>
        <p:spPr>
          <a:xfrm rot="4108800">
            <a:off x="4639680" y="3142440"/>
            <a:ext cx="857160" cy="3571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ccia a destra 11"/>
          <p:cNvSpPr/>
          <p:nvPr/>
        </p:nvSpPr>
        <p:spPr>
          <a:xfrm rot="2588400">
            <a:off x="5435640" y="4673160"/>
            <a:ext cx="857160" cy="3571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ccia a destra 12"/>
          <p:cNvSpPr/>
          <p:nvPr/>
        </p:nvSpPr>
        <p:spPr>
          <a:xfrm rot="3633000">
            <a:off x="7009920" y="3139200"/>
            <a:ext cx="857160" cy="3571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ccia a destra 13"/>
          <p:cNvSpPr/>
          <p:nvPr/>
        </p:nvSpPr>
        <p:spPr>
          <a:xfrm rot="17795400">
            <a:off x="7995240" y="3142080"/>
            <a:ext cx="857160" cy="3571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ccia bidirezionale orizzontale 14"/>
          <p:cNvSpPr/>
          <p:nvPr/>
        </p:nvSpPr>
        <p:spPr>
          <a:xfrm rot="18409800">
            <a:off x="7243560" y="4586040"/>
            <a:ext cx="928800" cy="357480"/>
          </a:xfrm>
          <a:prstGeom prst="leftRightArrow">
            <a:avLst>
              <a:gd name="adj1" fmla="val 50000"/>
              <a:gd name="adj2" fmla="val 499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asellaDiTesto 15"/>
          <p:cNvSpPr/>
          <p:nvPr/>
        </p:nvSpPr>
        <p:spPr>
          <a:xfrm>
            <a:off x="6000840" y="58579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Indexing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Segnaposto contenuto 2" descr=""/>
          <p:cNvPicPr/>
          <p:nvPr/>
        </p:nvPicPr>
        <p:blipFill>
          <a:blip r:embed="rId1"/>
          <a:stretch/>
        </p:blipFill>
        <p:spPr>
          <a:xfrm>
            <a:off x="414360" y="1090440"/>
            <a:ext cx="827892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How to represent text?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1760400"/>
          <a:ext cx="8229600" cy="4079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f81b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ficial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hael Jacks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website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f81b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ichael jack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er and Upper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hael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ckso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’s new video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f81b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ichael jack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kenizer 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e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Music, the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ita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company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f81b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ender guit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m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rosoft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owsXP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f81b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ndows x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 delimi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s on the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le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f81b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t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ctionary size: stop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D:\Documenti\Lavoro\Unipi\lectures\IR\docs.jpg"/>
          <p:cNvPicPr/>
          <p:nvPr/>
        </p:nvPicPr>
        <p:blipFill>
          <a:blip r:embed="rId1"/>
          <a:stretch/>
        </p:blipFill>
        <p:spPr>
          <a:xfrm>
            <a:off x="642960" y="1643040"/>
            <a:ext cx="1057320" cy="1057320"/>
          </a:xfrm>
          <a:prstGeom prst="rect">
            <a:avLst/>
          </a:prstGeom>
          <a:ln w="0">
            <a:noFill/>
          </a:ln>
        </p:spPr>
      </p:pic>
      <p:sp>
        <p:nvSpPr>
          <p:cNvPr id="71" name="Rettangolo 24"/>
          <p:cNvSpPr/>
          <p:nvPr/>
        </p:nvSpPr>
        <p:spPr>
          <a:xfrm>
            <a:off x="1500120" y="2500200"/>
            <a:ext cx="6929640" cy="3214800"/>
          </a:xfrm>
          <a:prstGeom prst="rect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Analyzer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0717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Text processing pipe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reccia angolare in su 4"/>
          <p:cNvSpPr/>
          <p:nvPr/>
        </p:nvSpPr>
        <p:spPr>
          <a:xfrm flipV="1">
            <a:off x="1785960" y="2214000"/>
            <a:ext cx="785880" cy="500040"/>
          </a:xfrm>
          <a:custGeom>
            <a:avLst/>
            <a:gdLst>
              <a:gd name="textAreaLeft" fmla="*/ 0 w 785880"/>
              <a:gd name="textAreaRight" fmla="*/ 723600 w 785880"/>
              <a:gd name="textAreaTop" fmla="*/ 374760 h 500040"/>
              <a:gd name="textAreaBottom" fmla="*/ 500040 h 500040"/>
            </a:gdLst>
            <a:ahLst/>
            <a:rect l="textAreaLeft" t="textAreaTop" r="textAreaRight" b="textAreaBottom"/>
            <a:pathLst>
              <a:path w="785812" h="500062">
                <a:moveTo>
                  <a:pt x="0" y="375047"/>
                </a:moveTo>
                <a:lnTo>
                  <a:pt x="598289" y="375047"/>
                </a:lnTo>
                <a:lnTo>
                  <a:pt x="598289" y="125016"/>
                </a:lnTo>
                <a:lnTo>
                  <a:pt x="535781" y="125016"/>
                </a:lnTo>
                <a:lnTo>
                  <a:pt x="660797" y="0"/>
                </a:lnTo>
                <a:lnTo>
                  <a:pt x="785812" y="125016"/>
                </a:lnTo>
                <a:lnTo>
                  <a:pt x="723304" y="125016"/>
                </a:lnTo>
                <a:lnTo>
                  <a:pt x="723304" y="500062"/>
                </a:lnTo>
                <a:lnTo>
                  <a:pt x="0" y="500062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ttangolo 5"/>
          <p:cNvSpPr/>
          <p:nvPr/>
        </p:nvSpPr>
        <p:spPr>
          <a:xfrm>
            <a:off x="1643040" y="2786040"/>
            <a:ext cx="1571760" cy="4287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Tokeni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ccia angolare in su 6"/>
          <p:cNvSpPr/>
          <p:nvPr/>
        </p:nvSpPr>
        <p:spPr>
          <a:xfrm flipV="1">
            <a:off x="3357720" y="2928240"/>
            <a:ext cx="785520" cy="500040"/>
          </a:xfrm>
          <a:custGeom>
            <a:avLst/>
            <a:gdLst>
              <a:gd name="textAreaLeft" fmla="*/ 0 w 785520"/>
              <a:gd name="textAreaRight" fmla="*/ 723240 w 785520"/>
              <a:gd name="textAreaTop" fmla="*/ 374760 h 500040"/>
              <a:gd name="textAreaBottom" fmla="*/ 500040 h 500040"/>
            </a:gdLst>
            <a:ahLst/>
            <a:rect l="textAreaLeft" t="textAreaTop" r="textAreaRight" b="textAreaBottom"/>
            <a:pathLst>
              <a:path w="785812" h="500062">
                <a:moveTo>
                  <a:pt x="0" y="375047"/>
                </a:moveTo>
                <a:lnTo>
                  <a:pt x="598289" y="375047"/>
                </a:lnTo>
                <a:lnTo>
                  <a:pt x="598289" y="125016"/>
                </a:lnTo>
                <a:lnTo>
                  <a:pt x="535781" y="125016"/>
                </a:lnTo>
                <a:lnTo>
                  <a:pt x="660797" y="0"/>
                </a:lnTo>
                <a:lnTo>
                  <a:pt x="785812" y="125016"/>
                </a:lnTo>
                <a:lnTo>
                  <a:pt x="723304" y="125016"/>
                </a:lnTo>
                <a:lnTo>
                  <a:pt x="723304" y="500062"/>
                </a:lnTo>
                <a:lnTo>
                  <a:pt x="0" y="500062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ttangolo 7"/>
          <p:cNvSpPr/>
          <p:nvPr/>
        </p:nvSpPr>
        <p:spPr>
          <a:xfrm>
            <a:off x="3143160" y="3500280"/>
            <a:ext cx="171468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TokenFilte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asellaDiTesto 8"/>
          <p:cNvSpPr/>
          <p:nvPr/>
        </p:nvSpPr>
        <p:spPr>
          <a:xfrm>
            <a:off x="1785960" y="185724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asellaDiTesto 9"/>
          <p:cNvSpPr/>
          <p:nvPr/>
        </p:nvSpPr>
        <p:spPr>
          <a:xfrm>
            <a:off x="3357720" y="25718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Token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ccia angolare in su 10"/>
          <p:cNvSpPr/>
          <p:nvPr/>
        </p:nvSpPr>
        <p:spPr>
          <a:xfrm flipV="1">
            <a:off x="5000760" y="3642480"/>
            <a:ext cx="785520" cy="500040"/>
          </a:xfrm>
          <a:custGeom>
            <a:avLst/>
            <a:gdLst>
              <a:gd name="textAreaLeft" fmla="*/ 0 w 785520"/>
              <a:gd name="textAreaRight" fmla="*/ 723240 w 785520"/>
              <a:gd name="textAreaTop" fmla="*/ 374760 h 500040"/>
              <a:gd name="textAreaBottom" fmla="*/ 500040 h 500040"/>
            </a:gdLst>
            <a:ahLst/>
            <a:rect l="textAreaLeft" t="textAreaTop" r="textAreaRight" b="textAreaBottom"/>
            <a:pathLst>
              <a:path w="785813" h="500062">
                <a:moveTo>
                  <a:pt x="0" y="375047"/>
                </a:moveTo>
                <a:lnTo>
                  <a:pt x="598290" y="375047"/>
                </a:lnTo>
                <a:lnTo>
                  <a:pt x="598290" y="125016"/>
                </a:lnTo>
                <a:lnTo>
                  <a:pt x="535782" y="125016"/>
                </a:lnTo>
                <a:lnTo>
                  <a:pt x="660798" y="0"/>
                </a:lnTo>
                <a:lnTo>
                  <a:pt x="785813" y="125016"/>
                </a:lnTo>
                <a:lnTo>
                  <a:pt x="723305" y="125016"/>
                </a:lnTo>
                <a:lnTo>
                  <a:pt x="723305" y="500062"/>
                </a:lnTo>
                <a:lnTo>
                  <a:pt x="0" y="500062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ttangolo 11"/>
          <p:cNvSpPr/>
          <p:nvPr/>
        </p:nvSpPr>
        <p:spPr>
          <a:xfrm>
            <a:off x="4786200" y="4214880"/>
            <a:ext cx="171468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TokenFilte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asellaDiTesto 12"/>
          <p:cNvSpPr/>
          <p:nvPr/>
        </p:nvSpPr>
        <p:spPr>
          <a:xfrm>
            <a:off x="5000760" y="32860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Token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ccia angolare in su 13"/>
          <p:cNvSpPr/>
          <p:nvPr/>
        </p:nvSpPr>
        <p:spPr>
          <a:xfrm flipV="1">
            <a:off x="6715080" y="4500000"/>
            <a:ext cx="785880" cy="500040"/>
          </a:xfrm>
          <a:custGeom>
            <a:avLst/>
            <a:gdLst>
              <a:gd name="textAreaLeft" fmla="*/ 0 w 785880"/>
              <a:gd name="textAreaRight" fmla="*/ 723600 w 785880"/>
              <a:gd name="textAreaTop" fmla="*/ 374760 h 500040"/>
              <a:gd name="textAreaBottom" fmla="*/ 500040 h 500040"/>
            </a:gdLst>
            <a:ahLst/>
            <a:rect l="textAreaLeft" t="textAreaTop" r="textAreaRight" b="textAreaBottom"/>
            <a:pathLst>
              <a:path w="785813" h="500062">
                <a:moveTo>
                  <a:pt x="0" y="375047"/>
                </a:moveTo>
                <a:lnTo>
                  <a:pt x="598290" y="375047"/>
                </a:lnTo>
                <a:lnTo>
                  <a:pt x="598290" y="125016"/>
                </a:lnTo>
                <a:lnTo>
                  <a:pt x="535782" y="125016"/>
                </a:lnTo>
                <a:lnTo>
                  <a:pt x="660798" y="0"/>
                </a:lnTo>
                <a:lnTo>
                  <a:pt x="785813" y="125016"/>
                </a:lnTo>
                <a:lnTo>
                  <a:pt x="723305" y="125016"/>
                </a:lnTo>
                <a:lnTo>
                  <a:pt x="723305" y="500062"/>
                </a:lnTo>
                <a:lnTo>
                  <a:pt x="0" y="500062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ttangolo 14"/>
          <p:cNvSpPr/>
          <p:nvPr/>
        </p:nvSpPr>
        <p:spPr>
          <a:xfrm>
            <a:off x="6500880" y="5072040"/>
            <a:ext cx="171432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TokenFilter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asellaDiTesto 15"/>
          <p:cNvSpPr/>
          <p:nvPr/>
        </p:nvSpPr>
        <p:spPr>
          <a:xfrm>
            <a:off x="6715080" y="414324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Token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D:\Documenti\Lavoro\Unipi\lectures\IR\db.png"/>
          <p:cNvPicPr/>
          <p:nvPr/>
        </p:nvPicPr>
        <p:blipFill>
          <a:blip r:embed="rId2"/>
          <a:stretch/>
        </p:blipFill>
        <p:spPr>
          <a:xfrm>
            <a:off x="4357800" y="5487840"/>
            <a:ext cx="1009440" cy="1009800"/>
          </a:xfrm>
          <a:prstGeom prst="rect">
            <a:avLst/>
          </a:prstGeom>
          <a:ln w="0">
            <a:noFill/>
          </a:ln>
        </p:spPr>
      </p:pic>
      <p:sp>
        <p:nvSpPr>
          <p:cNvPr id="87" name="CasellaDiTesto 19"/>
          <p:cNvSpPr/>
          <p:nvPr/>
        </p:nvSpPr>
        <p:spPr>
          <a:xfrm>
            <a:off x="5929200" y="6143760"/>
            <a:ext cx="1643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alibri"/>
                <a:ea typeface="Courier New"/>
              </a:rPr>
              <a:t>Indexing toke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asellaDiTesto 20"/>
          <p:cNvSpPr/>
          <p:nvPr/>
        </p:nvSpPr>
        <p:spPr>
          <a:xfrm>
            <a:off x="4000680" y="64882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ccia angolare in su 23"/>
          <p:cNvSpPr/>
          <p:nvPr/>
        </p:nvSpPr>
        <p:spPr>
          <a:xfrm flipV="1" rot="5400000">
            <a:off x="6179400" y="4893480"/>
            <a:ext cx="571680" cy="1928880"/>
          </a:xfrm>
          <a:custGeom>
            <a:avLst/>
            <a:gdLst>
              <a:gd name="textAreaLeft" fmla="*/ 0 w 571680"/>
              <a:gd name="textAreaRight" fmla="*/ 500400 w 571680"/>
              <a:gd name="textAreaTop" fmla="*/ 1786680 h 1928880"/>
              <a:gd name="textAreaBottom" fmla="*/ 1929600 h 1928880"/>
            </a:gdLst>
            <a:ahLst/>
            <a:rect l="textAreaLeft" t="textAreaTop" r="textAreaRight" b="textAreaBottom"/>
            <a:pathLst>
              <a:path w="571500" h="1928812">
                <a:moveTo>
                  <a:pt x="0" y="1785937"/>
                </a:moveTo>
                <a:lnTo>
                  <a:pt x="357188" y="1785937"/>
                </a:lnTo>
                <a:lnTo>
                  <a:pt x="357188" y="142875"/>
                </a:lnTo>
                <a:lnTo>
                  <a:pt x="285750" y="142875"/>
                </a:lnTo>
                <a:lnTo>
                  <a:pt x="428625" y="0"/>
                </a:lnTo>
                <a:lnTo>
                  <a:pt x="571500" y="142875"/>
                </a:lnTo>
                <a:lnTo>
                  <a:pt x="500063" y="142875"/>
                </a:lnTo>
                <a:lnTo>
                  <a:pt x="500063" y="1928812"/>
                </a:lnTo>
                <a:lnTo>
                  <a:pt x="0" y="1928812"/>
                </a:lnTo>
                <a:close/>
              </a:path>
            </a:pathLst>
          </a:custGeom>
          <a:solidFill>
            <a:srgbClr val="d9d9d9"/>
          </a:solidFill>
          <a:ln w="255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asellaDiTesto 25"/>
          <p:cNvSpPr/>
          <p:nvPr/>
        </p:nvSpPr>
        <p:spPr>
          <a:xfrm>
            <a:off x="1571760" y="521496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sellaDiTesto 26"/>
          <p:cNvSpPr/>
          <p:nvPr/>
        </p:nvSpPr>
        <p:spPr>
          <a:xfrm>
            <a:off x="428760" y="264312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Do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Analyzer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D:\Documenti\Lavoro\Unipi\lectures\IR\db.png"/>
          <p:cNvPicPr/>
          <p:nvPr/>
        </p:nvPicPr>
        <p:blipFill>
          <a:blip r:embed="rId1"/>
          <a:stretch/>
        </p:blipFill>
        <p:spPr>
          <a:xfrm>
            <a:off x="7000920" y="2714760"/>
            <a:ext cx="1009440" cy="1009440"/>
          </a:xfrm>
          <a:prstGeom prst="rect">
            <a:avLst/>
          </a:prstGeom>
          <a:ln w="0">
            <a:noFill/>
          </a:ln>
        </p:spPr>
      </p:pic>
      <p:sp>
        <p:nvSpPr>
          <p:cNvPr id="94" name="CasellaDiTesto 4"/>
          <p:cNvSpPr/>
          <p:nvPr/>
        </p:nvSpPr>
        <p:spPr>
          <a:xfrm>
            <a:off x="6643800" y="37148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D:\Documenti\Lavoro\Unipi\lectures\IR\list.jpg"/>
          <p:cNvPicPr/>
          <p:nvPr/>
        </p:nvPicPr>
        <p:blipFill>
          <a:blip r:embed="rId2"/>
          <a:stretch/>
        </p:blipFill>
        <p:spPr>
          <a:xfrm>
            <a:off x="3714840" y="4000680"/>
            <a:ext cx="882720" cy="882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D:\Documenti\Lavoro\Unipi\lectures\IR\user.png"/>
          <p:cNvPicPr/>
          <p:nvPr/>
        </p:nvPicPr>
        <p:blipFill>
          <a:blip r:embed="rId3"/>
          <a:stretch/>
        </p:blipFill>
        <p:spPr>
          <a:xfrm>
            <a:off x="571680" y="2000160"/>
            <a:ext cx="1163520" cy="1163880"/>
          </a:xfrm>
          <a:prstGeom prst="rect">
            <a:avLst/>
          </a:prstGeom>
          <a:ln w="0">
            <a:noFill/>
          </a:ln>
        </p:spPr>
      </p:pic>
      <p:sp>
        <p:nvSpPr>
          <p:cNvPr id="97" name="Freccia a destra 7"/>
          <p:cNvSpPr/>
          <p:nvPr/>
        </p:nvSpPr>
        <p:spPr>
          <a:xfrm>
            <a:off x="2000160" y="2500200"/>
            <a:ext cx="13575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ttangolo 8"/>
          <p:cNvSpPr/>
          <p:nvPr/>
        </p:nvSpPr>
        <p:spPr>
          <a:xfrm>
            <a:off x="3571920" y="2071800"/>
            <a:ext cx="121428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Analy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ccia a destra 9"/>
          <p:cNvSpPr/>
          <p:nvPr/>
        </p:nvSpPr>
        <p:spPr>
          <a:xfrm rot="519000">
            <a:off x="5230440" y="2712600"/>
            <a:ext cx="1357200" cy="31608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d9d9d9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asellaDiTesto 10"/>
          <p:cNvSpPr/>
          <p:nvPr/>
        </p:nvSpPr>
        <p:spPr>
          <a:xfrm>
            <a:off x="5143680" y="2071800"/>
            <a:ext cx="17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Sear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asellaDiTesto 11"/>
          <p:cNvSpPr/>
          <p:nvPr/>
        </p:nvSpPr>
        <p:spPr>
          <a:xfrm>
            <a:off x="1785960" y="21430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Query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ccia a destra 12"/>
          <p:cNvSpPr/>
          <p:nvPr/>
        </p:nvSpPr>
        <p:spPr>
          <a:xfrm flipH="1" rot="20447400">
            <a:off x="4562280" y="3854520"/>
            <a:ext cx="2203200" cy="3157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asellaDiTesto 13"/>
          <p:cNvSpPr/>
          <p:nvPr/>
        </p:nvSpPr>
        <p:spPr>
          <a:xfrm>
            <a:off x="3357720" y="492912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Analyzer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Built-in </a:t>
            </a:r>
            <a:r>
              <a:rPr b="1" lang="it-IT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Tokenizer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tespaceTokenizer</a:t>
            </a:r>
            <a:r>
              <a:rPr b="0" lang="it-IT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etterTokenizer</a:t>
            </a:r>
            <a:r>
              <a:rPr b="0" lang="it-IT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,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ndardTokenizer</a:t>
            </a:r>
            <a:br>
              <a:rPr sz="2600"/>
            </a:b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good for most European-language doc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Built-in </a:t>
            </a:r>
            <a:r>
              <a:rPr b="1" lang="it-IT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TokenFilter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LowerCase, Stemming, Stopwords, AccentFilter, many others in contrib packages (language-specifi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Built-in </a:t>
            </a:r>
            <a:r>
              <a:rPr b="1" lang="it-IT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Keyword, Simple, Standard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PerField wrapp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ttangolo 3"/>
          <p:cNvSpPr/>
          <p:nvPr/>
        </p:nvSpPr>
        <p:spPr>
          <a:xfrm>
            <a:off x="428760" y="642960"/>
            <a:ext cx="421452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the LexCorp BFG-900 is a pr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ttangolo 4"/>
          <p:cNvSpPr/>
          <p:nvPr/>
        </p:nvSpPr>
        <p:spPr>
          <a:xfrm>
            <a:off x="428760" y="71280"/>
            <a:ext cx="4214520" cy="357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ttangolo 5"/>
          <p:cNvSpPr/>
          <p:nvPr/>
        </p:nvSpPr>
        <p:spPr>
          <a:xfrm>
            <a:off x="5000760" y="71280"/>
            <a:ext cx="4000320" cy="357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tangolo 7"/>
          <p:cNvSpPr/>
          <p:nvPr/>
        </p:nvSpPr>
        <p:spPr>
          <a:xfrm>
            <a:off x="5000760" y="642960"/>
            <a:ext cx="400032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 corp bfg900 pri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ttangolo 9"/>
          <p:cNvSpPr/>
          <p:nvPr/>
        </p:nvSpPr>
        <p:spPr>
          <a:xfrm>
            <a:off x="642960" y="1500120"/>
            <a:ext cx="4287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ttangolo 10"/>
          <p:cNvSpPr/>
          <p:nvPr/>
        </p:nvSpPr>
        <p:spPr>
          <a:xfrm>
            <a:off x="1143000" y="1500120"/>
            <a:ext cx="9288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Co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ttangolo 11"/>
          <p:cNvSpPr/>
          <p:nvPr/>
        </p:nvSpPr>
        <p:spPr>
          <a:xfrm>
            <a:off x="2143080" y="1500120"/>
            <a:ext cx="9288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FG-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ttangolo 12"/>
          <p:cNvSpPr/>
          <p:nvPr/>
        </p:nvSpPr>
        <p:spPr>
          <a:xfrm>
            <a:off x="3143160" y="1500120"/>
            <a:ext cx="2858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ttangolo 13"/>
          <p:cNvSpPr/>
          <p:nvPr/>
        </p:nvSpPr>
        <p:spPr>
          <a:xfrm>
            <a:off x="3500280" y="1500120"/>
            <a:ext cx="2145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ttangolo 14"/>
          <p:cNvSpPr/>
          <p:nvPr/>
        </p:nvSpPr>
        <p:spPr>
          <a:xfrm>
            <a:off x="3786120" y="1500120"/>
            <a:ext cx="7146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ttangolo 15"/>
          <p:cNvSpPr/>
          <p:nvPr/>
        </p:nvSpPr>
        <p:spPr>
          <a:xfrm>
            <a:off x="142920" y="2286000"/>
            <a:ext cx="4287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ttangolo 16"/>
          <p:cNvSpPr/>
          <p:nvPr/>
        </p:nvSpPr>
        <p:spPr>
          <a:xfrm>
            <a:off x="1143000" y="2286000"/>
            <a:ext cx="9288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ttangolo 17"/>
          <p:cNvSpPr/>
          <p:nvPr/>
        </p:nvSpPr>
        <p:spPr>
          <a:xfrm>
            <a:off x="2143080" y="2286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F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ttangolo 18"/>
          <p:cNvSpPr/>
          <p:nvPr/>
        </p:nvSpPr>
        <p:spPr>
          <a:xfrm>
            <a:off x="3286080" y="2286000"/>
            <a:ext cx="2858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ttangolo 19"/>
          <p:cNvSpPr/>
          <p:nvPr/>
        </p:nvSpPr>
        <p:spPr>
          <a:xfrm>
            <a:off x="3643200" y="2286000"/>
            <a:ext cx="2145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ttangolo 20"/>
          <p:cNvSpPr/>
          <p:nvPr/>
        </p:nvSpPr>
        <p:spPr>
          <a:xfrm>
            <a:off x="3929040" y="2286000"/>
            <a:ext cx="7142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ttangolo 21"/>
          <p:cNvSpPr/>
          <p:nvPr/>
        </p:nvSpPr>
        <p:spPr>
          <a:xfrm>
            <a:off x="642960" y="2286000"/>
            <a:ext cx="4287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ttangolo 22"/>
          <p:cNvSpPr/>
          <p:nvPr/>
        </p:nvSpPr>
        <p:spPr>
          <a:xfrm>
            <a:off x="1143000" y="2571840"/>
            <a:ext cx="9288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Co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ttangolo 23"/>
          <p:cNvSpPr/>
          <p:nvPr/>
        </p:nvSpPr>
        <p:spPr>
          <a:xfrm>
            <a:off x="2714760" y="2286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ttangolo 24"/>
          <p:cNvSpPr/>
          <p:nvPr/>
        </p:nvSpPr>
        <p:spPr>
          <a:xfrm>
            <a:off x="142920" y="3429000"/>
            <a:ext cx="4287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ttangolo 25"/>
          <p:cNvSpPr/>
          <p:nvPr/>
        </p:nvSpPr>
        <p:spPr>
          <a:xfrm>
            <a:off x="1143000" y="3429000"/>
            <a:ext cx="9288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ttangolo 26"/>
          <p:cNvSpPr/>
          <p:nvPr/>
        </p:nvSpPr>
        <p:spPr>
          <a:xfrm>
            <a:off x="2143080" y="3429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f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ttangolo 27"/>
          <p:cNvSpPr/>
          <p:nvPr/>
        </p:nvSpPr>
        <p:spPr>
          <a:xfrm>
            <a:off x="3286080" y="3429000"/>
            <a:ext cx="2858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ttangolo 28"/>
          <p:cNvSpPr/>
          <p:nvPr/>
        </p:nvSpPr>
        <p:spPr>
          <a:xfrm>
            <a:off x="3643200" y="3429000"/>
            <a:ext cx="2145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ttangolo 29"/>
          <p:cNvSpPr/>
          <p:nvPr/>
        </p:nvSpPr>
        <p:spPr>
          <a:xfrm>
            <a:off x="3929040" y="3429000"/>
            <a:ext cx="7142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ttangolo 30"/>
          <p:cNvSpPr/>
          <p:nvPr/>
        </p:nvSpPr>
        <p:spPr>
          <a:xfrm>
            <a:off x="642960" y="3429000"/>
            <a:ext cx="4287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ttangolo 31"/>
          <p:cNvSpPr/>
          <p:nvPr/>
        </p:nvSpPr>
        <p:spPr>
          <a:xfrm>
            <a:off x="1143000" y="3714840"/>
            <a:ext cx="9288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co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ttangolo 32"/>
          <p:cNvSpPr/>
          <p:nvPr/>
        </p:nvSpPr>
        <p:spPr>
          <a:xfrm>
            <a:off x="2714760" y="3429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ttangolo 43"/>
          <p:cNvSpPr/>
          <p:nvPr/>
        </p:nvSpPr>
        <p:spPr>
          <a:xfrm>
            <a:off x="1143000" y="4572000"/>
            <a:ext cx="9288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ttangolo 44"/>
          <p:cNvSpPr/>
          <p:nvPr/>
        </p:nvSpPr>
        <p:spPr>
          <a:xfrm>
            <a:off x="2143080" y="4572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f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ttangolo 47"/>
          <p:cNvSpPr/>
          <p:nvPr/>
        </p:nvSpPr>
        <p:spPr>
          <a:xfrm>
            <a:off x="3286080" y="4572000"/>
            <a:ext cx="7146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ttangolo 48"/>
          <p:cNvSpPr/>
          <p:nvPr/>
        </p:nvSpPr>
        <p:spPr>
          <a:xfrm>
            <a:off x="642960" y="4572000"/>
            <a:ext cx="4287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ttangolo 49"/>
          <p:cNvSpPr/>
          <p:nvPr/>
        </p:nvSpPr>
        <p:spPr>
          <a:xfrm>
            <a:off x="1143000" y="4857840"/>
            <a:ext cx="9288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co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ttangolo 50"/>
          <p:cNvSpPr/>
          <p:nvPr/>
        </p:nvSpPr>
        <p:spPr>
          <a:xfrm>
            <a:off x="2714760" y="4572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ttangolo 51"/>
          <p:cNvSpPr/>
          <p:nvPr/>
        </p:nvSpPr>
        <p:spPr>
          <a:xfrm>
            <a:off x="1143000" y="5715000"/>
            <a:ext cx="9288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ttangolo 52"/>
          <p:cNvSpPr/>
          <p:nvPr/>
        </p:nvSpPr>
        <p:spPr>
          <a:xfrm>
            <a:off x="2143080" y="5715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f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ttangolo 53"/>
          <p:cNvSpPr/>
          <p:nvPr/>
        </p:nvSpPr>
        <p:spPr>
          <a:xfrm>
            <a:off x="3286080" y="5715000"/>
            <a:ext cx="7146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int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ttangolo 54"/>
          <p:cNvSpPr/>
          <p:nvPr/>
        </p:nvSpPr>
        <p:spPr>
          <a:xfrm>
            <a:off x="642960" y="5715000"/>
            <a:ext cx="4287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ttangolo 55"/>
          <p:cNvSpPr/>
          <p:nvPr/>
        </p:nvSpPr>
        <p:spPr>
          <a:xfrm>
            <a:off x="1143000" y="6000840"/>
            <a:ext cx="9288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co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ttangolo 56"/>
          <p:cNvSpPr/>
          <p:nvPr/>
        </p:nvSpPr>
        <p:spPr>
          <a:xfrm>
            <a:off x="2714760" y="5715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asellaDiTesto 57"/>
          <p:cNvSpPr/>
          <p:nvPr/>
        </p:nvSpPr>
        <p:spPr>
          <a:xfrm>
            <a:off x="3429000" y="10000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c0504d"/>
                </a:solidFill>
                <a:latin typeface="Calibri"/>
              </a:rPr>
              <a:t>WhitespaceToken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asellaDiTesto 59"/>
          <p:cNvSpPr/>
          <p:nvPr/>
        </p:nvSpPr>
        <p:spPr>
          <a:xfrm>
            <a:off x="3429000" y="18572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c0504d"/>
                </a:solidFill>
                <a:latin typeface="Calibri"/>
              </a:rPr>
              <a:t>WordDelimiter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asellaDiTesto 60"/>
          <p:cNvSpPr/>
          <p:nvPr/>
        </p:nvSpPr>
        <p:spPr>
          <a:xfrm>
            <a:off x="3429000" y="292896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c0504d"/>
                </a:solidFill>
                <a:latin typeface="Calibri"/>
              </a:rPr>
              <a:t>LowerCase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ccia in giù 61"/>
          <p:cNvSpPr/>
          <p:nvPr/>
        </p:nvSpPr>
        <p:spPr>
          <a:xfrm>
            <a:off x="1714680" y="1071720"/>
            <a:ext cx="92844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ccia in giù 62"/>
          <p:cNvSpPr/>
          <p:nvPr/>
        </p:nvSpPr>
        <p:spPr>
          <a:xfrm>
            <a:off x="1714680" y="1928880"/>
            <a:ext cx="9284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ccia in giù 63"/>
          <p:cNvSpPr/>
          <p:nvPr/>
        </p:nvSpPr>
        <p:spPr>
          <a:xfrm>
            <a:off x="1714680" y="3000240"/>
            <a:ext cx="9284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asellaDiTesto 64"/>
          <p:cNvSpPr/>
          <p:nvPr/>
        </p:nvSpPr>
        <p:spPr>
          <a:xfrm>
            <a:off x="3429000" y="407196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c0504d"/>
                </a:solidFill>
                <a:latin typeface="Calibri"/>
              </a:rPr>
              <a:t>Stopword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ccia in giù 65"/>
          <p:cNvSpPr/>
          <p:nvPr/>
        </p:nvSpPr>
        <p:spPr>
          <a:xfrm>
            <a:off x="1714680" y="4143240"/>
            <a:ext cx="9284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asellaDiTesto 66"/>
          <p:cNvSpPr/>
          <p:nvPr/>
        </p:nvSpPr>
        <p:spPr>
          <a:xfrm>
            <a:off x="3429000" y="521496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c0504d"/>
                </a:solidFill>
                <a:latin typeface="Calibri"/>
              </a:rPr>
              <a:t>Stemmer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ccia in giù 67"/>
          <p:cNvSpPr/>
          <p:nvPr/>
        </p:nvSpPr>
        <p:spPr>
          <a:xfrm>
            <a:off x="1714680" y="5286240"/>
            <a:ext cx="9284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ttangolo 68"/>
          <p:cNvSpPr/>
          <p:nvPr/>
        </p:nvSpPr>
        <p:spPr>
          <a:xfrm>
            <a:off x="5286240" y="1500120"/>
            <a:ext cx="5716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ttangolo 69"/>
          <p:cNvSpPr/>
          <p:nvPr/>
        </p:nvSpPr>
        <p:spPr>
          <a:xfrm>
            <a:off x="5929200" y="1500120"/>
            <a:ext cx="6429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ttangolo 70"/>
          <p:cNvSpPr/>
          <p:nvPr/>
        </p:nvSpPr>
        <p:spPr>
          <a:xfrm>
            <a:off x="6643800" y="1500120"/>
            <a:ext cx="10000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fg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ttangolo 71"/>
          <p:cNvSpPr/>
          <p:nvPr/>
        </p:nvSpPr>
        <p:spPr>
          <a:xfrm>
            <a:off x="7715160" y="1500120"/>
            <a:ext cx="10000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i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ttangolo 72"/>
          <p:cNvSpPr/>
          <p:nvPr/>
        </p:nvSpPr>
        <p:spPr>
          <a:xfrm>
            <a:off x="5286240" y="2286000"/>
            <a:ext cx="5716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ttangolo 73"/>
          <p:cNvSpPr/>
          <p:nvPr/>
        </p:nvSpPr>
        <p:spPr>
          <a:xfrm>
            <a:off x="5929200" y="2286000"/>
            <a:ext cx="6429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ttangolo 74"/>
          <p:cNvSpPr/>
          <p:nvPr/>
        </p:nvSpPr>
        <p:spPr>
          <a:xfrm>
            <a:off x="6643800" y="2286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f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ttangolo 75"/>
          <p:cNvSpPr/>
          <p:nvPr/>
        </p:nvSpPr>
        <p:spPr>
          <a:xfrm>
            <a:off x="7858080" y="2286000"/>
            <a:ext cx="10000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i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ttangolo 76"/>
          <p:cNvSpPr/>
          <p:nvPr/>
        </p:nvSpPr>
        <p:spPr>
          <a:xfrm>
            <a:off x="7215120" y="2286000"/>
            <a:ext cx="5716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ttangolo 77"/>
          <p:cNvSpPr/>
          <p:nvPr/>
        </p:nvSpPr>
        <p:spPr>
          <a:xfrm>
            <a:off x="5286240" y="3429000"/>
            <a:ext cx="5716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ttangolo 78"/>
          <p:cNvSpPr/>
          <p:nvPr/>
        </p:nvSpPr>
        <p:spPr>
          <a:xfrm>
            <a:off x="5929200" y="3429000"/>
            <a:ext cx="6429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ttangolo 79"/>
          <p:cNvSpPr/>
          <p:nvPr/>
        </p:nvSpPr>
        <p:spPr>
          <a:xfrm>
            <a:off x="6643800" y="3429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f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ttangolo 80"/>
          <p:cNvSpPr/>
          <p:nvPr/>
        </p:nvSpPr>
        <p:spPr>
          <a:xfrm>
            <a:off x="7858080" y="3429000"/>
            <a:ext cx="10000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i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ttangolo 81"/>
          <p:cNvSpPr/>
          <p:nvPr/>
        </p:nvSpPr>
        <p:spPr>
          <a:xfrm>
            <a:off x="7215120" y="3429000"/>
            <a:ext cx="5716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ttangolo 82"/>
          <p:cNvSpPr/>
          <p:nvPr/>
        </p:nvSpPr>
        <p:spPr>
          <a:xfrm>
            <a:off x="5286240" y="4572000"/>
            <a:ext cx="5716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ttangolo 83"/>
          <p:cNvSpPr/>
          <p:nvPr/>
        </p:nvSpPr>
        <p:spPr>
          <a:xfrm>
            <a:off x="5929200" y="4572000"/>
            <a:ext cx="6429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ttangolo 84"/>
          <p:cNvSpPr/>
          <p:nvPr/>
        </p:nvSpPr>
        <p:spPr>
          <a:xfrm>
            <a:off x="6643800" y="4572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f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ttangolo 85"/>
          <p:cNvSpPr/>
          <p:nvPr/>
        </p:nvSpPr>
        <p:spPr>
          <a:xfrm>
            <a:off x="7858080" y="4572000"/>
            <a:ext cx="10000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i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ttangolo 86"/>
          <p:cNvSpPr/>
          <p:nvPr/>
        </p:nvSpPr>
        <p:spPr>
          <a:xfrm>
            <a:off x="7215120" y="4572000"/>
            <a:ext cx="5716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ttangolo 87"/>
          <p:cNvSpPr/>
          <p:nvPr/>
        </p:nvSpPr>
        <p:spPr>
          <a:xfrm>
            <a:off x="5286240" y="5715000"/>
            <a:ext cx="5716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ttangolo 88"/>
          <p:cNvSpPr/>
          <p:nvPr/>
        </p:nvSpPr>
        <p:spPr>
          <a:xfrm>
            <a:off x="5929200" y="5715000"/>
            <a:ext cx="6429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ttangolo 89"/>
          <p:cNvSpPr/>
          <p:nvPr/>
        </p:nvSpPr>
        <p:spPr>
          <a:xfrm>
            <a:off x="6643800" y="5715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f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ttangolo 90"/>
          <p:cNvSpPr/>
          <p:nvPr/>
        </p:nvSpPr>
        <p:spPr>
          <a:xfrm>
            <a:off x="7858080" y="5715000"/>
            <a:ext cx="10000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int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ttangolo 91"/>
          <p:cNvSpPr/>
          <p:nvPr/>
        </p:nvSpPr>
        <p:spPr>
          <a:xfrm>
            <a:off x="7215120" y="5715000"/>
            <a:ext cx="5716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ccia in giù 92"/>
          <p:cNvSpPr/>
          <p:nvPr/>
        </p:nvSpPr>
        <p:spPr>
          <a:xfrm>
            <a:off x="6643800" y="1071720"/>
            <a:ext cx="92844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in giù 93"/>
          <p:cNvSpPr/>
          <p:nvPr/>
        </p:nvSpPr>
        <p:spPr>
          <a:xfrm>
            <a:off x="6643800" y="1928880"/>
            <a:ext cx="9284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ccia in giù 94"/>
          <p:cNvSpPr/>
          <p:nvPr/>
        </p:nvSpPr>
        <p:spPr>
          <a:xfrm>
            <a:off x="6643800" y="3000240"/>
            <a:ext cx="9284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ccia in giù 95"/>
          <p:cNvSpPr/>
          <p:nvPr/>
        </p:nvSpPr>
        <p:spPr>
          <a:xfrm>
            <a:off x="6643800" y="4143240"/>
            <a:ext cx="9284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ccia in giù 96"/>
          <p:cNvSpPr/>
          <p:nvPr/>
        </p:nvSpPr>
        <p:spPr>
          <a:xfrm>
            <a:off x="6643800" y="5286240"/>
            <a:ext cx="9284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e 97"/>
          <p:cNvSpPr/>
          <p:nvPr/>
        </p:nvSpPr>
        <p:spPr>
          <a:xfrm>
            <a:off x="3857760" y="6215040"/>
            <a:ext cx="1714320" cy="50004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alibri"/>
              </a:rPr>
              <a:t>MAT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08:26:45Z</dcterms:created>
  <dc:creator>Ugo</dc:creator>
  <dc:description/>
  <dc:language>en-US</dc:language>
  <cp:lastModifiedBy>ferragin</cp:lastModifiedBy>
  <dcterms:modified xsi:type="dcterms:W3CDTF">2010-12-16T18:01:31Z</dcterms:modified>
  <cp:revision>77</cp:revision>
  <dc:subject/>
  <dc:title>Lucene in action</dc:title>
</cp:coreProperties>
</file>